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A76A-DE26-416E-8642-36D24451C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Nonfiction Reading and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 real-life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 content areas (SS and Science) to lite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ed, leveled libraries (specific to gen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-Rich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brics- Writer’s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ebrations of student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8AB6-0240-4097-B5D1-1F9F376C4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CF23-661C-4ACD-A733-C70053C1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36FB-FACD-430A-8963-944D2CEEC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C7CA-0512-41E5-9814-EE6CEFE2A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2A4A-8812-40D9-80D7-FF27FE88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37C2-B0A0-4E83-BFCD-D3514AA1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629C-9567-4E1C-B9B8-4C49C690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F047-FBAE-4FF4-AF13-1B7A11BE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913B-3E42-46B7-8B76-E3B3AB50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BEE0-4D69-4145-8FB9-8545193F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A1B9-9E11-4F62-83C5-BFAAA474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8C48-0D65-469F-B2AC-0D55BAE2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2732-1B22-4B4D-8C33-250B9346D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4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Tempus Sans ITC"/>
              </a:rPr>
              <a:t>West Haverstraw’s Journey </a:t>
            </a:r>
            <a:br>
              <a:rPr sz="4800"/>
            </a:br>
            <a:r>
              <a:rPr b="0" lang="en-US" sz="4800" spc="-1" strike="noStrike">
                <a:solidFill>
                  <a:srgbClr val="006600"/>
                </a:solidFill>
                <a:latin typeface="Tempus Sans ITC"/>
              </a:rPr>
              <a:t>“Assess for Success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ding Ques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w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assess for success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ensure our ultimate goals of student proficiency and mastery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re we 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ssessing for learn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57200" y="2057400"/>
            <a:ext cx="1684440" cy="16844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empus Sans ITC"/>
              </a:rPr>
              <a:t>Focus on Nonfic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80880" y="1600200"/>
          <a:ext cx="8382240" cy="489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600200"/>
                    <a:ext cx="8382240" cy="48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1523880" y="137160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170640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empus Sans ITC"/>
              </a:rPr>
              <a:t>Focus on Internal Assess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04920" y="2286000"/>
          <a:ext cx="8610480" cy="390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286000"/>
                    <a:ext cx="8610480" cy="39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100080" y="1600200"/>
            <a:ext cx="1892160" cy="1981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7086600" y="1066680"/>
            <a:ext cx="17524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empus Sans ITC"/>
              </a:rPr>
              <a:t>State Assessme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5238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mericana BT"/>
              </a:rPr>
              <a:t>Objective:</a:t>
            </a:r>
            <a:r>
              <a:rPr b="0" lang="en-US" sz="2400" spc="-1" strike="noStrike">
                <a:solidFill>
                  <a:srgbClr val="000000"/>
                </a:solidFill>
                <a:latin typeface="Americana BT"/>
              </a:rPr>
              <a:t> Students in the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mericana BT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mericana BT"/>
              </a:rPr>
              <a:t> grade will attain Proficiency, Level 3 or Mastery, Level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mericana BT"/>
              </a:rPr>
              <a:t>Where we were: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mericana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mericana BT"/>
              </a:rPr>
              <a:t>ELA 4 Results</a:t>
            </a:r>
            <a:r>
              <a:rPr b="0" i="1" lang="en-US" sz="2400" spc="-1" strike="noStrike">
                <a:solidFill>
                  <a:srgbClr val="000000"/>
                </a:solidFill>
                <a:latin typeface="Americana BT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mericana BT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mericana BT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mericana BT"/>
              </a:rPr>
              <a:t>	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mericana BT"/>
              </a:rPr>
              <a:t>Math 4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28600" y="3429000"/>
          <a:ext cx="4381560" cy="3219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3429000"/>
                    <a:ext cx="438156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380880" y="1295280"/>
            <a:ext cx="8001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572000" y="3433680"/>
          <a:ext cx="4367160" cy="32292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3433680"/>
                    <a:ext cx="4367160" cy="32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empus Sans ITC"/>
              </a:rPr>
              <a:t>Student Excel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empus Sans ITC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Tempus Sans ITC"/>
              </a:rPr>
              <a:t>We are what we repeatedly do.  Excellence, then, is not an act, but a habit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Aristo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3520" y="18288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0456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empus Sans ITC"/>
              </a:rPr>
              <a:t>Making “Student Proficiency” Happen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2438280"/>
            <a:ext cx="807732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Proficienc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 they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know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t, and can they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3429000"/>
            <a:ext cx="2514600" cy="11912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nowle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4267080"/>
            <a:ext cx="3429000" cy="11912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mprehe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5943600"/>
            <a:ext cx="2666880" cy="6426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895480" y="3581280"/>
            <a:ext cx="609840" cy="533520"/>
          </a:xfrm>
          <a:custGeom>
            <a:avLst/>
            <a:gdLst>
              <a:gd name="textAreaLeft" fmla="*/ 203400 w 609840"/>
              <a:gd name="textAreaRight" fmla="*/ 522360 w 609840"/>
              <a:gd name="textAreaTop" fmla="*/ 307440 h 533520"/>
              <a:gd name="textAreaBottom" fmla="*/ 4572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7086600" y="5181480"/>
            <a:ext cx="609480" cy="533520"/>
          </a:xfrm>
          <a:custGeom>
            <a:avLst/>
            <a:gdLst>
              <a:gd name="textAreaLeft" fmla="*/ 203040 w 609480"/>
              <a:gd name="textAreaRight" fmla="*/ 522000 w 609480"/>
              <a:gd name="textAreaTop" fmla="*/ 307440 h 533520"/>
              <a:gd name="textAreaBottom" fmla="*/ 4572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20968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52680" y="5105520"/>
            <a:ext cx="3429000" cy="6426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ndersta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5105520" y="4343400"/>
            <a:ext cx="609480" cy="533520"/>
          </a:xfrm>
          <a:custGeom>
            <a:avLst/>
            <a:gdLst>
              <a:gd name="textAreaLeft" fmla="*/ 203040 w 609480"/>
              <a:gd name="textAreaRight" fmla="*/ 522000 w 609480"/>
              <a:gd name="textAreaTop" fmla="*/ 307440 h 533520"/>
              <a:gd name="textAreaBottom" fmla="*/ 4572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6172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. Ho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380520" y="-3960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2209680"/>
            <a:ext cx="8153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you can’t measure it, did it happen?”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DuFour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352680" y="3733920"/>
            <a:ext cx="2743200" cy="24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empus Sans ITC"/>
              </a:rPr>
              <a:t>The Road to Student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we want them to know? How will we determine proficient learn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enduring understanding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essential 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our students know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n’t our students know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get all our students where we need them to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556272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iculum Map – Unit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510552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81880" y="502920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44956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uring understan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43800" y="44956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of Unit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5334120"/>
            <a:ext cx="76197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empus Sans ITC"/>
              </a:rPr>
              <a:t>Road to Success – Mental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1905120"/>
            <a:ext cx="0" cy="3809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5715000"/>
            <a:ext cx="76197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447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ning of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315200" y="472428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going Learning of Skills/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574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1952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290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3392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4832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5288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6272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24852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80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38280" y="48006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91120" y="4038480"/>
            <a:ext cx="0" cy="2362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43600" y="49528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2971800"/>
            <a:ext cx="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905120" y="3352680"/>
            <a:ext cx="809640" cy="13543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505320" y="2362320"/>
            <a:ext cx="946080" cy="1582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1066680" y="4419720"/>
            <a:ext cx="536760" cy="896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2971800" y="4419720"/>
            <a:ext cx="536400" cy="896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4800600" y="4419720"/>
            <a:ext cx="536400" cy="896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6324480" y="4419720"/>
            <a:ext cx="536760" cy="896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8"/>
          <a:stretch/>
        </p:blipFill>
        <p:spPr>
          <a:xfrm>
            <a:off x="5410080" y="3429000"/>
            <a:ext cx="809640" cy="1353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9"/>
          <a:stretch/>
        </p:blipFill>
        <p:spPr>
          <a:xfrm>
            <a:off x="8001000" y="3581280"/>
            <a:ext cx="855720" cy="1430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04920" y="60958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ily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647712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64911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ding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5120" y="25909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p.  Ass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16002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p.  Assess. Check 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86400" y="27432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p.  Ass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22860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of Unit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empus Sans ITC"/>
              </a:rPr>
              <a:t>What Does Assessment Look L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2971800"/>
            <a:ext cx="8458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90512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z/T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ademic       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log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p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Task/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2819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610480" y="2819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57400" y="586728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iculum Map – Unit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541008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29600" y="541008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7242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uring understan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43800" y="48769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of Unit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34290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y to D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to Wee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o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981080" y="5105160"/>
            <a:ext cx="9144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8120" y="5105520"/>
            <a:ext cx="6858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219320" y="5181480"/>
            <a:ext cx="838080" cy="754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6324480" y="5181480"/>
            <a:ext cx="838440" cy="7542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010280" y="5791320"/>
            <a:ext cx="6858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7772400" y="579132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4648320" y="4724280"/>
            <a:ext cx="868320" cy="990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62120" y="5715000"/>
            <a:ext cx="7467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empus Sans ITC"/>
              </a:rPr>
              <a:t>Loop of Ongoing 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864080" y="1523880"/>
            <a:ext cx="5417280" cy="5036760"/>
            <a:chOff x="1864080" y="1523880"/>
            <a:chExt cx="5417280" cy="5036760"/>
          </a:xfrm>
        </p:grpSpPr>
        <p:sp>
          <p:nvSpPr>
            <p:cNvPr id="136" name="_s11269"/>
            <p:cNvSpPr/>
            <p:nvPr/>
          </p:nvSpPr>
          <p:spPr>
            <a:xfrm>
              <a:off x="3466080" y="1545120"/>
              <a:ext cx="2212200" cy="2097720"/>
            </a:xfrm>
            <a:custGeom>
              <a:avLst/>
              <a:gdLst>
                <a:gd name="textAreaLeft" fmla="*/ 0 w 2212200"/>
                <a:gd name="textAreaRight" fmla="*/ 2212560 w 2212200"/>
                <a:gd name="textAreaTop" fmla="*/ 0 h 2097720"/>
                <a:gd name="textAreaBottom" fmla="*/ 2098080 h 209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11270"/>
            <p:cNvSpPr/>
            <p:nvPr/>
          </p:nvSpPr>
          <p:spPr>
            <a:xfrm rot="3060000">
              <a:off x="4624200" y="1989720"/>
              <a:ext cx="2097720" cy="2212560"/>
            </a:xfrm>
            <a:custGeom>
              <a:avLst/>
              <a:gdLst>
                <a:gd name="textAreaLeft" fmla="*/ 0 w 2097720"/>
                <a:gd name="textAreaRight" fmla="*/ 2098080 w 2097720"/>
                <a:gd name="textAreaTop" fmla="*/ 0 h 2212560"/>
                <a:gd name="textAreaBottom" fmla="*/ 2212920 h 221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gradFill rotWithShape="0">
              <a:gsLst>
                <a:gs pos="0">
                  <a:srgbClr val="d6e0e0"/>
                </a:gs>
                <a:gs pos="100000">
                  <a:srgbClr val="ffffff"/>
                </a:gs>
              </a:gsLst>
              <a:lin ang="5040000"/>
            </a:gradFill>
            <a:ln w="9360">
              <a:solidFill>
                <a:srgbClr val="d6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1271"/>
            <p:cNvSpPr/>
            <p:nvPr/>
          </p:nvSpPr>
          <p:spPr>
            <a:xfrm rot="6180000">
              <a:off x="4896720" y="3120840"/>
              <a:ext cx="2098080" cy="2212560"/>
            </a:xfrm>
            <a:custGeom>
              <a:avLst/>
              <a:gdLst>
                <a:gd name="textAreaLeft" fmla="*/ 0 w 2098080"/>
                <a:gd name="textAreaRight" fmla="*/ 2098440 w 2098080"/>
                <a:gd name="textAreaTop" fmla="*/ 0 h 2212560"/>
                <a:gd name="textAreaBottom" fmla="*/ 2212920 h 221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gradFill rotWithShape="0">
              <a:gsLst>
                <a:gs pos="0">
                  <a:srgbClr val="97cdcc"/>
                </a:gs>
                <a:gs pos="100000">
                  <a:srgbClr val="ffffff"/>
                </a:gs>
              </a:gsLst>
              <a:lin ang="1920000"/>
            </a:gradFill>
            <a:ln w="9360">
              <a:solidFill>
                <a:srgbClr val="97cd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1272"/>
            <p:cNvSpPr/>
            <p:nvPr/>
          </p:nvSpPr>
          <p:spPr>
            <a:xfrm rot="9240000">
              <a:off x="4076640" y="4083840"/>
              <a:ext cx="2212200" cy="2097720"/>
            </a:xfrm>
            <a:custGeom>
              <a:avLst/>
              <a:gdLst>
                <a:gd name="textAreaLeft" fmla="*/ 0 w 2212200"/>
                <a:gd name="textAreaRight" fmla="*/ 2212560 w 2212200"/>
                <a:gd name="textAreaTop" fmla="*/ 0 h 2097720"/>
                <a:gd name="textAreaBottom" fmla="*/ 2098080 h 209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gradFill rotWithShape="0">
              <a:gsLst>
                <a:gs pos="0">
                  <a:srgbClr val="336666"/>
                </a:gs>
                <a:gs pos="100000">
                  <a:srgbClr val="ffffff"/>
                </a:gs>
              </a:gsLst>
              <a:lin ang="20460000"/>
            </a:gra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11273"/>
            <p:cNvSpPr/>
            <p:nvPr/>
          </p:nvSpPr>
          <p:spPr>
            <a:xfrm rot="12360000">
              <a:off x="2854800" y="4083480"/>
              <a:ext cx="2212560" cy="2097720"/>
            </a:xfrm>
            <a:custGeom>
              <a:avLst/>
              <a:gdLst>
                <a:gd name="textAreaLeft" fmla="*/ 0 w 2212560"/>
                <a:gd name="textAreaRight" fmla="*/ 2212920 w 2212560"/>
                <a:gd name="textAreaTop" fmla="*/ 0 h 2097720"/>
                <a:gd name="textAreaBottom" fmla="*/ 2098080 h 209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17340000"/>
            </a:gradFill>
            <a:ln w="936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1274"/>
            <p:cNvSpPr/>
            <p:nvPr/>
          </p:nvSpPr>
          <p:spPr>
            <a:xfrm rot="15420000">
              <a:off x="2150280" y="3120840"/>
              <a:ext cx="2098080" cy="2212560"/>
            </a:xfrm>
            <a:custGeom>
              <a:avLst/>
              <a:gdLst>
                <a:gd name="textAreaLeft" fmla="*/ 0 w 2098080"/>
                <a:gd name="textAreaRight" fmla="*/ 2098440 w 2098080"/>
                <a:gd name="textAreaTop" fmla="*/ 0 h 2212560"/>
                <a:gd name="textAreaBottom" fmla="*/ 2212920 h 221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1428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1275"/>
            <p:cNvSpPr/>
            <p:nvPr/>
          </p:nvSpPr>
          <p:spPr>
            <a:xfrm rot="18540000">
              <a:off x="2422080" y="1991160"/>
              <a:ext cx="2097720" cy="2212200"/>
            </a:xfrm>
            <a:custGeom>
              <a:avLst/>
              <a:gdLst>
                <a:gd name="textAreaLeft" fmla="*/ 0 w 2097720"/>
                <a:gd name="textAreaRight" fmla="*/ 2098080 w 2097720"/>
                <a:gd name="textAreaTop" fmla="*/ 0 h 2212200"/>
                <a:gd name="textAreaBottom" fmla="*/ 2212560 h 221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gradFill rotWithShape="0">
              <a:gsLst>
                <a:gs pos="0">
                  <a:srgbClr val="d6e0e0"/>
                </a:gs>
                <a:gs pos="100000">
                  <a:srgbClr val="ffffff"/>
                </a:gs>
              </a:gsLst>
              <a:lin ang="11160000"/>
            </a:gradFill>
            <a:ln w="9360">
              <a:solidFill>
                <a:srgbClr val="d6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1276"/>
            <p:cNvSpPr/>
            <p:nvPr/>
          </p:nvSpPr>
          <p:spPr>
            <a:xfrm>
              <a:off x="5151600" y="1523880"/>
              <a:ext cx="8672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"/>
                </a:rPr>
                <a:t>Standards-Based Curriculu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11277"/>
            <p:cNvSpPr/>
            <p:nvPr/>
          </p:nvSpPr>
          <p:spPr>
            <a:xfrm>
              <a:off x="1864080" y="3025440"/>
              <a:ext cx="8672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entury"/>
                </a:rPr>
                <a:t>Staff Development &amp; Curricular Considera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1278"/>
            <p:cNvSpPr/>
            <p:nvPr/>
          </p:nvSpPr>
          <p:spPr>
            <a:xfrm>
              <a:off x="6414120" y="3025440"/>
              <a:ext cx="8672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entury"/>
                </a:rPr>
                <a:t>Clearly Stated &amp; Focused Objectiv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11279"/>
            <p:cNvSpPr/>
            <p:nvPr/>
          </p:nvSpPr>
          <p:spPr>
            <a:xfrm>
              <a:off x="5963040" y="4897440"/>
              <a:ext cx="8672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entury"/>
                </a:rPr>
                <a:t>Internal &amp; External Assess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11280"/>
            <p:cNvSpPr/>
            <p:nvPr/>
          </p:nvSpPr>
          <p:spPr>
            <a:xfrm>
              <a:off x="2314080" y="4897440"/>
              <a:ext cx="8672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entury"/>
                </a:rPr>
                <a:t>Formative &amp; Timely Feedback to Staff &amp; Stud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11281"/>
            <p:cNvSpPr/>
            <p:nvPr/>
          </p:nvSpPr>
          <p:spPr>
            <a:xfrm>
              <a:off x="4138560" y="5730840"/>
              <a:ext cx="8672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entury"/>
                </a:rPr>
                <a:t>Collaborative Scoring &amp; Data Analy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11282"/>
            <p:cNvSpPr/>
            <p:nvPr/>
          </p:nvSpPr>
          <p:spPr>
            <a:xfrm>
              <a:off x="3126600" y="1524600"/>
              <a:ext cx="8672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entury"/>
                </a:rPr>
                <a:t>Individualized Instruction &amp; Student Lear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26480" y="3196440"/>
              <a:ext cx="2539440" cy="16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entury"/>
                </a:rPr>
                <a:t>Purpose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entury"/>
                </a:rPr>
                <a:t>Building High Levels of Student Achiev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empus Sans ITC"/>
              </a:rPr>
              <a:t>Ongoing Assessment</a:t>
            </a:r>
            <a:br>
              <a:rPr sz="4400"/>
            </a:br>
            <a:br>
              <a:rPr sz="1200"/>
            </a:br>
            <a:r>
              <a:rPr b="0" lang="en-US" sz="2400" spc="-1" strike="noStrike">
                <a:solidFill>
                  <a:srgbClr val="3333ff"/>
                </a:solidFill>
                <a:latin typeface="Monotype Sorts"/>
                <a:ea typeface="Monotype Sorts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Laser-like focus on student proficiency</a:t>
            </a:r>
            <a:br>
              <a:rPr sz="2400"/>
            </a:br>
            <a:r>
              <a:rPr b="0" lang="en-US" sz="2400" spc="-1" strike="noStrike">
                <a:solidFill>
                  <a:srgbClr val="3333ff"/>
                </a:solidFill>
                <a:latin typeface="Monotype Sorts"/>
                <a:ea typeface="Monotype Sorts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Collaborative scoring and utilization of rubrics</a:t>
            </a:r>
            <a:br>
              <a:rPr sz="2400"/>
            </a:br>
            <a:r>
              <a:rPr b="0" lang="en-US" sz="2400" spc="-1" strike="noStrike">
                <a:solidFill>
                  <a:srgbClr val="3333ff"/>
                </a:solidFill>
                <a:latin typeface="Monotype Sorts"/>
                <a:ea typeface="Monotype Sorts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Immediate feedback to students</a:t>
            </a:r>
            <a:br>
              <a:rPr sz="2400"/>
            </a:br>
            <a:r>
              <a:rPr b="0" lang="en-US" sz="2400" spc="-1" strike="noStrike">
                <a:solidFill>
                  <a:srgbClr val="3333ff"/>
                </a:solidFill>
                <a:latin typeface="Monotype Sorts"/>
                <a:ea typeface="Monotype Sorts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Results as “tools” guiding instruction and student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80520" y="3047760"/>
            <a:ext cx="3886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1.) </a:t>
            </a:r>
            <a:r>
              <a:rPr b="1" lang="en-US" sz="2800" spc="-1" strike="noStrike">
                <a:solidFill>
                  <a:srgbClr val="333399"/>
                </a:solidFill>
                <a:latin typeface="Tempus Sans ITC"/>
              </a:rPr>
              <a:t>Nonfiction Writing Tasks (Grades 1-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spcAft>
                <a:spcPts val="176"/>
              </a:spcAft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Cross-curricular conn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spcAft>
                <a:spcPts val="176"/>
              </a:spcAft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Alignment with district curriculum m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752480" y="5105520"/>
            <a:ext cx="2438640" cy="14698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267080" y="3025800"/>
            <a:ext cx="457200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2.) </a:t>
            </a:r>
            <a:r>
              <a:rPr b="1" lang="en-US" sz="2800" spc="-1" strike="noStrike">
                <a:solidFill>
                  <a:srgbClr val="333399"/>
                </a:solidFill>
                <a:latin typeface="Tempus Sans ITC"/>
              </a:rPr>
              <a:t>Internal Assessments in ELA &amp; Math (Grades 2-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Alignment with NYS Assess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Item and group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Cross-curricular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Alignment with district curriculum 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990720"/>
            <a:ext cx="8458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2819520"/>
            <a:ext cx="8458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3T21:00:56Z</dcterms:created>
  <dc:creator>North Rockland Schools</dc:creator>
  <dc:description/>
  <dc:language>en-US</dc:language>
  <cp:lastModifiedBy>North Rockland Schools</cp:lastModifiedBy>
  <dcterms:modified xsi:type="dcterms:W3CDTF">2007-03-08T18:01:21Z</dcterms:modified>
  <cp:revision>2</cp:revision>
  <dc:subject/>
  <dc:title>Assess for Success</dc:title>
</cp:coreProperties>
</file>